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5FF-C86B-45C6-A8DD-1BE0DE33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BFA-C977-491A-ACDC-34D4C898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DD334-8A64-4649-BE11-8D217ED8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11986-D6DB-49B4-9C96-892E5360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7DE15-DAE3-47F5-9B11-D8FC2815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589D3-5350-49B3-9735-6D8375CB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4C659-63CA-498C-987F-60E0E4FE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E3BEE-76F6-4DC0-B32E-DD37461C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FAE6F-99E2-43B9-BD37-ECD36C58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2EB37-07E7-4667-9DCE-E4AF69C8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1F902-4665-4B88-87DD-BB7D74AF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D24C6-251E-4DB7-81B5-E8F52D35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C1D-4801-4BBC-B28E-72019E8A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E3E6B-7A8C-4441-9DBB-E0594402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035EC-B9FE-4C45-A259-2D94356C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0BD85-9707-41A2-AB9E-1925168E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8CB24-8BC7-469E-9490-DBE63D0C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F96F9-C5AE-4789-8107-A7F9F15B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2F870-5701-4DEE-A70F-971309B3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55BED-9AD0-4117-BEAF-E9348DFA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7AF67-7EE3-4BB9-A219-A6082456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17A56-608B-4D67-A8E8-12EECD75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83CFA-E02E-4EC4-975F-A13144B7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94C-881C-4BCE-9138-CC0B7FC9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70032-FD0D-4F02-B0C3-A7741F6A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36295-BB92-4480-98E8-0FDECDC8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8E7DD-27EA-44FA-BA67-F2B9279E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BEF1D-4936-4C88-A60D-1D736857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EEAAD-7DEE-44AD-B398-69AAA20F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F4BB7-A1E6-4B3D-A12E-D21CDBC5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DE69A-2FC1-471E-BB23-EFCD924E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9CB3E-F495-4A62-AAB1-5CD49786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C714D-A112-421D-B7FE-5F5936D8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F3A35-3A1D-4360-8452-2CAB37AB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54A7-6193-4528-B760-D9694555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99244-9796-4ED3-B288-332DB0B5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8F7FE-5D80-435D-8BDE-E4A06D8C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C71FC-D728-43EB-B6E8-5529B394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1A9C9-1C75-46B1-A430-2877C1A9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9DC63-D49A-42EB-8608-226E8995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6956A-970E-41B9-9292-D39570FC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FA4F1-5156-49E8-970E-AA1FDB5D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BE680-0113-4FE4-BBAD-D8C839B0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2C9FE-FBE8-4005-8C83-B6D43A93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991F7-E397-48AD-BBA4-F16B4716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5E01-C134-4D17-8DF6-B8B9E20C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CE836-7872-4BA3-B737-35D9D3E5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FFAE9-70DE-4B88-A97C-14F76D9F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9680F-A24C-483E-BBB0-E115FAFD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C0C84-A9DC-4B33-BDCC-F7290BE1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5B057-0E35-42CB-8FBB-5B3B92D7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E1423-EEEF-4D2E-B4EE-82FE9A9A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BA035-6CAA-488D-944E-324D209B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2CDDF-3E82-45FA-9E58-CBB1D371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6381B-8B68-4DFE-9E0E-A24BD96F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3ABE0-863B-4A50-BEAB-D650DA59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FFDC-FFA0-48C9-90BA-99B4366E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3DF2B-413C-4393-9242-74492EB1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5F8E4-07FD-4E75-A94E-C808317B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0452A-3D2C-4233-9D2D-2939A90A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0411E-387A-4D7F-B0B4-FC24E9EA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01021-80DE-4C0E-815A-C7FE130D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79F39-E94D-480A-8CCA-6ADB6C96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8B394-8349-4BB6-B2DC-F05BDAA1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3AFA8-4F00-4308-9F06-644DB1D8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AF8C81-7D0B-4915-B29C-09D320BE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DEEEB-8DCD-4C81-A673-8484ECC9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DF00-6D89-4970-9DAE-CB7E75D4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4D874-9AC8-47CD-86DD-7C100079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DCA11-734D-49B7-AC71-7605961E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5ECAB-BD01-4859-B7D9-4416016C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256EB-53F5-490E-80E2-0882DAB9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9C729-177B-46FF-A13D-AFC9A4D0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74361-572E-4977-A1C1-91BB908B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9D45A-E509-4DEF-BF3D-FC2DA8D5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345E6-8BF2-46FE-9D6D-1BED2A70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31A8E0-CDD7-4502-BA2F-08EB016A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441DD3-4E12-4BF6-967B-B558C25A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F046-2F2A-4368-BF79-14F0377A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279B92-7106-4D63-BC9F-80F979B7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08A04C-1656-41D0-B012-D1E84A90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F50F20-7B77-4869-893F-53CC8C17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E28E59-46BF-4CCF-B800-BC92A937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0109A-91A0-4B66-BA67-32F47604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4A3D76-1BDF-4A5C-B872-01CFB74A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000D19-A83D-43DC-B1B0-88EA6F74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B7742-A425-4A62-9E9B-B01A64C4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415AE-D72E-416A-84C1-C9287598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1A58B-295F-428B-9886-E4EB45B7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078B-26C5-45D4-8740-F0E729EA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72ED90-1F57-48CE-BD0C-193B302A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5F91C1-906E-4060-8A72-FC6E60B8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9D52B-2273-475B-B429-69DB5B68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DD789-6A1F-4D43-B062-398397E8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AD079-15CC-4026-9EF6-A083C99E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A3C6F7-B242-49C3-B4A8-A23C6C3A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A1EF9E-8802-45D9-A1C5-80FB9C17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F2AC5-7B29-4335-9531-7BEA5513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D68F45-ED26-48AD-B4C3-AA2B19EC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3E49AB-993A-4E92-932F-A455014F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5EFC-A4F1-4309-93E4-CE331983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DD8C71-2961-4AF3-BD47-1EA7E647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161995-97B9-462B-8C3B-B1F611A1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2EB11A-772A-4946-B427-6D92ED64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72DAA-BDB4-423C-B211-E42B93ED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7DC84-7AE0-43C4-8D28-C36DA6D3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209806-04FE-40EB-A697-7D21F2DB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F2F0C4-EEB8-4884-8BC0-8B6AA0DF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B8C579-6727-4261-9782-71D453CB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9D817-4725-452B-8E5F-06CCDAC9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1AD28B-803D-457B-9306-9CB3E9E0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AD6-765E-418E-B89A-9EC477C7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2FED-341A-42B6-9A5E-15B70848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5AA537-81B3-4BBA-AC59-D95FE668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236D59-2D3D-46DC-A5D7-707AE46A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533FBF-2CBD-4ECA-A354-D20B7A42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7B366-7324-4810-BB5A-66AAADB8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4AAC44-26CF-4494-9E14-EA085165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6075E4-E404-4C65-9227-537E2815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7BCD1-D838-452F-A2BE-3C3CB9A0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C6EAA-1626-40F1-AD25-3E4C5EBB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ACF1EF-F71E-433F-9BE8-188BAE26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289C88-9790-41EB-9BC6-D62CEFD6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83E7-BE8F-4112-8AD5-8868B76A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F4F54B-A010-48CA-87CA-F95B928F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D540FC-E5FE-492A-ADBA-4A68CC63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C244D9-75ED-4324-859C-418FCCDE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F5696C-2C8E-43FB-849D-F9F6D7A8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1F6F66-91F1-4A02-8D22-447937D8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36B3C3-550D-4342-A5C8-26C6B069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E690FB-0DC7-44AC-968C-9EF24D7A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7330C0-917A-4EF9-BB68-28D19289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E47046-536F-4D7C-BA1B-176CA082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5FBBE-1282-4BDA-9FB5-5AA4B63D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F564-1B12-48E2-B426-38A4E631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D8CE48-7999-48D5-815D-0CC8774E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AAE90A-03EA-4E76-AF06-8EE07C3C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DACAB6-780E-4846-93D6-E3E489BC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160AC6-7852-403D-9CA3-8C52F237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836062-CBE1-4B0A-866A-41BA6DEF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279D11-5F31-455D-A65A-E0FB985A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16E645-10C9-418F-B70A-0766939F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E49D3C-77AB-4C25-8D94-DB391AF4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61C044-A980-49AC-9DA1-028186A6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8174D1-0390-46D3-ADAA-2F5C1DB4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F511-D45A-4D3D-B918-98FD6A76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B16752-BC1A-4AF0-9CAF-FB0BA862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D0A6A8-62A4-46A8-91E4-387557BD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20EB7E-2B95-46AC-9719-2DDED33A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2B711D-552D-4FA3-8D42-7848993F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C41FC0-3483-4390-B2EC-5A3FA13F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368ECD-2AB3-4289-93CC-4D4E293E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CB2811-125D-4794-92AD-783BDDE3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73C536-E6F6-47C2-85F3-82219853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F31141-15AC-49A2-9609-155BAFBB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D02B41-1413-47E3-963E-C49ACCF1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B9ED-C3B4-4748-88AA-2AF31236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224930-E3DA-4004-AB90-7739EF8D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928BF3-7AC7-4591-B98A-1D3C4F8E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563518-82B9-47B2-A98A-62EF6543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BA8D7D-92A5-4282-8004-DB60F8F4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01FE55-BB20-47A9-902B-D125BB44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6A5C3-0BB4-45EF-B7B5-21659B82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4E19BC-08CA-4B7C-BF94-72D07D00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C19F3F-0BEF-4207-8749-E76143C7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97670E-01D4-4C46-BD62-D9AFBEF0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6C7EB9-70DA-4DCF-825A-9414F824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B326A-470D-4462-A10B-8AE39ECB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D997F4-260E-4585-863D-144A1EE1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4F9E1F-375A-46CD-AA82-D629C0A3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4BD9A5-BEA4-4F26-A388-6D33A55D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C8EB-4A7A-4196-9676-94208A3E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555A-E003-4DCF-8B61-057AB6BD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933AD-F945-4E93-9884-C25B2BFC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B82AE-E7AA-4298-858A-404D8565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AAC5-8ACF-4572-8D18-363E59E8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5327-1703-4F7D-8A38-35CAB79E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657C-364B-4B1E-BD69-D68EB6E0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6933C-ECF3-468E-A4A3-E7A10C4E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37E4-C4C9-4984-9767-C21A96D7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7521-7279-4A00-BEDA-34331CD5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6E601-3B3A-4D80-AFB1-65149FD1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114A4-C903-429E-9522-31739F1D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17B0C-9D68-4C19-A2DA-9D938D5E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7D13C-671C-4472-BB3C-559743DC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00BD8-AADF-4792-876A-9CB16925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E93-2481-4FCD-A53C-E242F5A7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34A1B-D269-4BA7-8AE0-3602F3A4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6941B-B8AE-4CDF-BC98-E77FA043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31441-672C-4281-AFD5-2202025B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F27E7-4547-4B58-97E0-E17498F3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189E5-6604-4F74-B2A2-C9FF019F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4F1FC-1767-45B7-92C1-FE9891A6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B58B3-1523-4E82-B557-9E6CE6D9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E4CCB-C404-45C7-B919-8F329A06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843D8-2315-430A-8F00-259C677B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D05B7-4FAC-4BAA-9F67-AFC3337C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36E-68FE-4C68-9177-1D298654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1A598-6BD1-4D81-A7A0-A43EDA3E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63196-FC01-4811-AADA-EAEAE7E1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CF070-9CA3-4E01-85B3-E7DD7627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D51AE-4145-48FF-B628-0B622F2B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B8E7D-4AF7-4AE9-949B-A30C8447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C1AFA-E7B8-4103-91AB-79C6D9C6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66657-74F4-49E0-B7E5-FF37446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398B2-1DB0-4F38-9D7B-F637582E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08313-541F-4BC0-A83F-ED55EB31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6A8BA-901B-46E4-8F78-E8DC2ABD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3A6-F91E-4D91-A1DC-AEB71B6E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E208D-7415-4C80-AC00-53239150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9E89A-4762-4102-9E69-09C7512B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52A43-7A8A-4CE6-8B1F-D4489CBB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87EE3-D6ED-4165-9501-9D54F121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5252C-AC19-44E3-916C-E66DFE99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5C61E-BFA3-44D8-9A74-B2806EA5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02633-ECF3-4D35-8FBD-DD367DF0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BA7EB-86B9-4297-903B-745DEE83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30385-C193-4810-A6B1-05F72298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B5743-3725-4721-A8FD-F6CFE7E8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F9B-F8B0-41E9-986F-31E39615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55CBA-3E47-4481-BBBE-0251DE8D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7578C-FF91-467A-868E-01BBC4F1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D5C2A-1C73-4854-B3BF-2A749300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BB7A9-68A7-4CAA-BB6E-13FB298E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2D661-2F69-4692-8904-5B20ADFC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BCC45-ADCF-4D64-BE95-10919174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7D91B-6864-4CB6-A97C-34125F5E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57F63-496E-41B2-83EB-B5AD5B4E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B4E38-2600-4F68-9D1C-ADDE97BD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9C38D-E59D-4CD0-95C5-FCBCA9F2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273-050D-435E-833A-CE44F80D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FDF1E-0F48-4F80-BAD3-2C20F65C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1FD06-A6A1-4AD5-9781-9F61B6AF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CCC0E-F9F7-4B0E-8DE1-C1863B0E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5D22B-94F1-4D78-9ECF-39E27440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D183F-4A98-483F-8BDF-4868D098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36700-4D2C-4358-A69B-84D61EDB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93BBE-CAE5-4A07-ACAB-7D4E8B5F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7EE24-2F21-4A40-BF8E-6E7429C9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E201C-B324-4650-9EF6-46FECD5F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C51CE-D76B-42F2-BD13-BF3938E4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0EB-C461-411F-B039-58F89675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E76C3-B38F-4508-A63E-A68B6066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7864A-9EB2-4D2C-8325-AE6A2057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2D8B7-CF87-4499-8237-BF480CD6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AA2FD-2566-488A-924A-676A4602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5600D-4CF9-42F4-923E-891DEFD5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57AA7-1959-4CB8-8CC9-3A68DFA4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226C3-BD3D-4811-95A2-54E36110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C2317-4962-41A4-AF88-24700A74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2C74E-15CD-47B3-BB4F-4CC6A275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88237-AE1E-4798-A4D6-7508A6FB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EFE4-D39E-42F1-8DF5-FA83E2808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F3BD-7F3B-4159-99F8-831BA2F284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515C-F378-4E8C-8DA2-BB79A97703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1138-8B54-475C-B8E8-DA94F0C967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8E60-5D41-4454-A4F1-0CA7EA5FC9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A671-F2DB-4B59-AB41-5CECC7B892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CFE9-4D37-45B6-8343-490E7CA056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5231-FB47-426F-96B0-161BD16F49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C682-1089-41E6-8F41-1A7D686D02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B04F-2750-426C-AAE0-44D2FC2FEC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F764-F541-47FC-80F3-52D5DCE268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9797-0866-41FA-B6E8-4B4A14C2EA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925F-8A0F-427C-845A-5A2DDAA528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6FFE-1EF8-4392-988A-A398D40B18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223F-AC4D-4334-A68F-1AA79FBFD7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20E8-290A-41C9-9D56-A0FAD149A3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0CC4-AAC0-4566-8695-BE8C4F1D02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D4E5-BBAB-4867-BFA2-BE735AC2BE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3CA1-0AC5-4C14-AEE8-AD67101267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B004-245C-4EBC-BEEE-59910FBFD8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4967-540B-4CFF-B775-9266E929AF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8C3E-FE0B-418A-B243-0168912488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51BE-C1A9-4649-80A1-785BD87D3F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9FF5-8FB5-4F3A-A283-C805280B83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1112-21D4-4AFB-85CB-754EA3DC97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B4F4-B685-4152-88CB-078C163F84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B336-C471-4A39-B839-D6D6450D2F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1529-E2CE-4D2B-B6CB-396C2AAB5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BA9B-91FC-46A6-BD1A-A186CD7F08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10CF-00CD-4CC9-929C-27BD5CD6CB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D496-5889-4008-ACC3-D8914D7A39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9564-8490-493E-BEA3-9604364FA1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9937-2496-4599-A641-D91A3E1A5F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4589-9F53-47CF-A416-F2DED77D00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9313-AC20-45D5-882B-66C1327F0E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2972-E809-46E6-94C7-63C0E82283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586B-EA40-4538-B735-053637D532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9621-D6FF-4C7C-8E36-D80FABE43C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441D-FCCF-47AE-917D-474A39C885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6811-1F2E-4A5B-BCF0-5D12285AD7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424240" y="3081240"/>
            <a:ext cx="42955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457200" y="1390680"/>
            <a:ext cx="8229600" cy="4076640"/>
          </a:xfrm>
          <a:prstGeom prst="rect">
            <a:avLst/>
          </a:prstGeom>
          <a:ln w="0">
            <a:noFill/>
          </a:ln>
        </p:spPr>
      </p:pic>
      <p:sp>
        <p:nvSpPr>
          <p:cNvPr id="1051" name="矩形 2"/>
          <p:cNvSpPr/>
          <p:nvPr/>
        </p:nvSpPr>
        <p:spPr>
          <a:xfrm>
            <a:off x="3071880" y="228600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3"/>
          <p:cNvSpPr/>
          <p:nvPr/>
        </p:nvSpPr>
        <p:spPr>
          <a:xfrm>
            <a:off x="4500720" y="2286000"/>
            <a:ext cx="107136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"/>
          <p:cNvSpPr/>
          <p:nvPr/>
        </p:nvSpPr>
        <p:spPr>
          <a:xfrm>
            <a:off x="6286680" y="2286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"/>
          <p:cNvSpPr/>
          <p:nvPr/>
        </p:nvSpPr>
        <p:spPr>
          <a:xfrm>
            <a:off x="1285920" y="407196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6"/>
          <p:cNvSpPr/>
          <p:nvPr/>
        </p:nvSpPr>
        <p:spPr>
          <a:xfrm>
            <a:off x="2714760" y="4071960"/>
            <a:ext cx="7142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7"/>
          <p:cNvSpPr/>
          <p:nvPr/>
        </p:nvSpPr>
        <p:spPr>
          <a:xfrm>
            <a:off x="6086520" y="40752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8"/>
          <p:cNvSpPr/>
          <p:nvPr/>
        </p:nvSpPr>
        <p:spPr>
          <a:xfrm>
            <a:off x="1143000" y="500076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9"/>
          <p:cNvSpPr/>
          <p:nvPr/>
        </p:nvSpPr>
        <p:spPr>
          <a:xfrm>
            <a:off x="2857680" y="50007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438120" y="1195560"/>
            <a:ext cx="8267760" cy="4466880"/>
          </a:xfrm>
          <a:prstGeom prst="rect">
            <a:avLst/>
          </a:prstGeom>
          <a:ln w="0">
            <a:noFill/>
          </a:ln>
        </p:spPr>
      </p:pic>
      <p:sp>
        <p:nvSpPr>
          <p:cNvPr id="1060" name="矩形 2"/>
          <p:cNvSpPr/>
          <p:nvPr/>
        </p:nvSpPr>
        <p:spPr>
          <a:xfrm>
            <a:off x="1214280" y="2071800"/>
            <a:ext cx="7146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3"/>
          <p:cNvSpPr/>
          <p:nvPr/>
        </p:nvSpPr>
        <p:spPr>
          <a:xfrm>
            <a:off x="2428920" y="2071800"/>
            <a:ext cx="1000080" cy="39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4"/>
          <p:cNvSpPr/>
          <p:nvPr/>
        </p:nvSpPr>
        <p:spPr>
          <a:xfrm>
            <a:off x="4083120" y="2106720"/>
            <a:ext cx="1000080" cy="361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5"/>
          <p:cNvSpPr/>
          <p:nvPr/>
        </p:nvSpPr>
        <p:spPr>
          <a:xfrm>
            <a:off x="5726160" y="20750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6"/>
          <p:cNvSpPr/>
          <p:nvPr/>
        </p:nvSpPr>
        <p:spPr>
          <a:xfrm>
            <a:off x="6966000" y="2131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7"/>
          <p:cNvSpPr/>
          <p:nvPr/>
        </p:nvSpPr>
        <p:spPr>
          <a:xfrm>
            <a:off x="1857240" y="3429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8"/>
          <p:cNvSpPr/>
          <p:nvPr/>
        </p:nvSpPr>
        <p:spPr>
          <a:xfrm>
            <a:off x="3063960" y="3451320"/>
            <a:ext cx="928440" cy="377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9"/>
          <p:cNvSpPr/>
          <p:nvPr/>
        </p:nvSpPr>
        <p:spPr>
          <a:xfrm>
            <a:off x="4714920" y="3429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10"/>
          <p:cNvSpPr/>
          <p:nvPr/>
        </p:nvSpPr>
        <p:spPr>
          <a:xfrm>
            <a:off x="5929200" y="3429000"/>
            <a:ext cx="8575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11"/>
          <p:cNvSpPr/>
          <p:nvPr/>
        </p:nvSpPr>
        <p:spPr>
          <a:xfrm>
            <a:off x="2286000" y="4786200"/>
            <a:ext cx="6429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12"/>
          <p:cNvSpPr/>
          <p:nvPr/>
        </p:nvSpPr>
        <p:spPr>
          <a:xfrm>
            <a:off x="4429080" y="4786200"/>
            <a:ext cx="857160" cy="392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13"/>
          <p:cNvSpPr/>
          <p:nvPr/>
        </p:nvSpPr>
        <p:spPr>
          <a:xfrm>
            <a:off x="6072120" y="4786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1" descr=""/>
          <p:cNvPicPr/>
          <p:nvPr/>
        </p:nvPicPr>
        <p:blipFill>
          <a:blip r:embed="rId1"/>
          <a:stretch/>
        </p:blipFill>
        <p:spPr>
          <a:xfrm>
            <a:off x="471600" y="2000160"/>
            <a:ext cx="8200800" cy="2857680"/>
          </a:xfrm>
          <a:prstGeom prst="rect">
            <a:avLst/>
          </a:prstGeom>
          <a:ln w="0">
            <a:noFill/>
          </a:ln>
        </p:spPr>
      </p:pic>
      <p:sp>
        <p:nvSpPr>
          <p:cNvPr id="1073" name="矩形 2"/>
          <p:cNvSpPr/>
          <p:nvPr/>
        </p:nvSpPr>
        <p:spPr>
          <a:xfrm>
            <a:off x="3071880" y="244332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3"/>
          <p:cNvSpPr/>
          <p:nvPr/>
        </p:nvSpPr>
        <p:spPr>
          <a:xfrm>
            <a:off x="4489560" y="2496960"/>
            <a:ext cx="1071360" cy="349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4"/>
          <p:cNvSpPr/>
          <p:nvPr/>
        </p:nvSpPr>
        <p:spPr>
          <a:xfrm>
            <a:off x="6000840" y="2428920"/>
            <a:ext cx="642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71800" y="3786120"/>
            <a:ext cx="7142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5214960" y="3786120"/>
            <a:ext cx="1000080" cy="397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7"/>
          <p:cNvSpPr/>
          <p:nvPr/>
        </p:nvSpPr>
        <p:spPr>
          <a:xfrm>
            <a:off x="6929280" y="3786120"/>
            <a:ext cx="500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143920" cy="55245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571760" y="2928960"/>
            <a:ext cx="2928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1928880" y="378612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3968640" y="3803760"/>
            <a:ext cx="2000520" cy="379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2343240" y="4700520"/>
            <a:ext cx="337176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1963800" y="5629320"/>
            <a:ext cx="2928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452520" y="1595520"/>
            <a:ext cx="82389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495360" y="1190520"/>
            <a:ext cx="81532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433440" y="1843200"/>
            <a:ext cx="827712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39320" cy="5477040"/>
          </a:xfrm>
          <a:prstGeom prst="rect">
            <a:avLst/>
          </a:prstGeom>
          <a:ln w="0">
            <a:noFill/>
          </a:ln>
        </p:spPr>
      </p:pic>
      <p:sp>
        <p:nvSpPr>
          <p:cNvPr id="1033" name="矩形 2"/>
          <p:cNvSpPr/>
          <p:nvPr/>
        </p:nvSpPr>
        <p:spPr>
          <a:xfrm>
            <a:off x="928800" y="2286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"/>
          <p:cNvSpPr/>
          <p:nvPr/>
        </p:nvSpPr>
        <p:spPr>
          <a:xfrm>
            <a:off x="928800" y="4071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557280" y="1828800"/>
            <a:ext cx="8029440" cy="3200400"/>
          </a:xfrm>
          <a:prstGeom prst="rect">
            <a:avLst/>
          </a:prstGeom>
          <a:ln w="0">
            <a:noFill/>
          </a:ln>
        </p:spPr>
      </p:pic>
      <p:sp>
        <p:nvSpPr>
          <p:cNvPr id="1036" name="矩形 2"/>
          <p:cNvSpPr/>
          <p:nvPr/>
        </p:nvSpPr>
        <p:spPr>
          <a:xfrm>
            <a:off x="849240" y="19321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3"/>
          <p:cNvSpPr/>
          <p:nvPr/>
        </p:nvSpPr>
        <p:spPr>
          <a:xfrm>
            <a:off x="857160" y="37861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485640" y="1604880"/>
            <a:ext cx="8172720" cy="364824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857160" y="16430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857160" y="3429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457200" y="1400040"/>
            <a:ext cx="8229600" cy="4057920"/>
          </a:xfrm>
          <a:prstGeom prst="rect">
            <a:avLst/>
          </a:prstGeom>
          <a:ln w="0">
            <a:noFill/>
          </a:ln>
        </p:spPr>
      </p:pic>
      <p:sp>
        <p:nvSpPr>
          <p:cNvPr id="1042" name="矩形 2"/>
          <p:cNvSpPr/>
          <p:nvPr/>
        </p:nvSpPr>
        <p:spPr>
          <a:xfrm>
            <a:off x="1928880" y="2714760"/>
            <a:ext cx="664920" cy="417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3"/>
          <p:cNvSpPr/>
          <p:nvPr/>
        </p:nvSpPr>
        <p:spPr>
          <a:xfrm>
            <a:off x="3214800" y="2760840"/>
            <a:ext cx="1000080" cy="382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4"/>
          <p:cNvSpPr/>
          <p:nvPr/>
        </p:nvSpPr>
        <p:spPr>
          <a:xfrm>
            <a:off x="4950000" y="27352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5"/>
          <p:cNvSpPr/>
          <p:nvPr/>
        </p:nvSpPr>
        <p:spPr>
          <a:xfrm>
            <a:off x="6215040" y="2786040"/>
            <a:ext cx="7142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6"/>
          <p:cNvSpPr/>
          <p:nvPr/>
        </p:nvSpPr>
        <p:spPr>
          <a:xfrm>
            <a:off x="2214720" y="321480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7"/>
          <p:cNvSpPr/>
          <p:nvPr/>
        </p:nvSpPr>
        <p:spPr>
          <a:xfrm>
            <a:off x="3786120" y="3214800"/>
            <a:ext cx="78588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8"/>
          <p:cNvSpPr/>
          <p:nvPr/>
        </p:nvSpPr>
        <p:spPr>
          <a:xfrm>
            <a:off x="1214280" y="4572000"/>
            <a:ext cx="500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9"/>
          <p:cNvSpPr/>
          <p:nvPr/>
        </p:nvSpPr>
        <p:spPr>
          <a:xfrm>
            <a:off x="2214720" y="4572000"/>
            <a:ext cx="10713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8:3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